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FA08-5103-4690-AC70-23774780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3608-52EF-49AC-80D6-7B74498A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EE3-10CA-4A37-A0E4-2703EAD8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0C4-00A9-4820-995A-C408B13B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F0BE-C8AC-4689-947E-A32065C1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112C-711B-4AFA-8060-46FD6035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9F8-F565-4710-97CA-3B8709CA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0D5C-4133-4779-A23D-78A672D4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359-15CB-4CB3-B98C-8DB00890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905A-C0DB-4BBB-8E4A-759DA902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9D61-70A2-421A-B918-3C1C3111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D2B-6C64-4490-985E-02ED437F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0449-B368-4CD9-A64E-4856C52B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A26C-8B61-4629-96FC-116434FA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2116-60EA-4009-85BC-AC205387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E5D-432F-4B2C-96D8-24E68759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4162-7F35-43F5-916E-788F13D0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EF1B-7D9A-4BEE-98F5-95876D54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FA19-38B3-4308-A3EE-ADC3F0C2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B2F-D78C-4A98-BB8C-CD98927D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121A-FA1E-483D-A453-6AB0DFA8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5DD-625B-4927-ADB1-AF950149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9E7-83EB-432D-BA2C-F76977C8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3FC-D068-47A6-8D0C-B37B2983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85CF-D3E3-4F9A-B02A-8EB854D42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onio Cisternin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sort our vec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6348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add a method for sorting a ve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not have enough information on our objects: no comparison operation i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ector is too generic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 only objects that implement an interface (i.e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ompar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t exposes a method to compar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addElement(IComparable e) {…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 a functional object: an object which implements an interface for compar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ances (i.e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ompar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ort(IComparator c) {…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IComparator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mpare(Object x, Object y)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as much as poss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xpress generic code with subtype polymorphism we should abstract the essence of the operations required on the objects we want to manipu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is over-abstraction: once defined our vector we can’t easily add a sort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issue: inheritance relies on explicit annotation of our types and changes are hard to per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ng over 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634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mmon programming pattern is to enumerate the elements of a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n’t really matter how the collection is organ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implement a class per collection type whose objects enumerates the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Enumer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lements() { return ???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printCollection(Enumeration e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e = hasMoreElements()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o = e.nextElemen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o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2916360" y="3645000"/>
            <a:ext cx="1800000" cy="57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class implements meth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verloading and single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Enumeration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Enumeration getEnumeration(Vector v)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v.elements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Other collections’ enum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 we can add enumerators to existing coll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umerator for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VectorEnum implements Enumeration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d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 v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hasMoreElements() { idx &lt; v.size(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nextElement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v.elementAt(idx++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Enum(Vector v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x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v = v;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 // why it is not copi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e enumerator up to d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634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sure that the enumerator is consistent the vector should be copied into the enume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n’t reasonable: memory wasted and we iterate on a different vector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 way to ensure that the enumerator is consistent with the v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solution: introduce a “version” of the v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time the vector is modified the version is increm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or compares the version of the vector with the one at time of 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handling in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Java 1.1 OO GUI frameworks were based on sub-ty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 can be easily described using generic programming: buttons are a subtype of control which is a special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ers of graphical widgets operates on controls, irrespective of their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dispatching and handling is dealt by virtu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 by default is delegated to the super-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AWT Ev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ponen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handleEvent(Event e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utton extends Componen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t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handleEvent(Event e) {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Window extends Component {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Frame extends Window {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MyButton extends Button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ean handleEvent(Event e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 (e.type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se Event.MOUSE_UP: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true; // Event handl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super.handleEvent(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s of AWT Ev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rogramming in this case is quite elegant but ineffic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agation of events to a number of handlers, mostly use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liferation of classes: one for each  object with different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reuse is clearly a good 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an algorithm can be applicable to many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avoid rewriting as much a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introduce great benefits but also may limit code re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r(int i, int j) { return i*j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sqr(double i, double j) {return i*j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otion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q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nique but we must define it twice because of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offer mechanisms to address this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Delegatio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er Pattern (aka publish/subscrib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ble has set of registered obser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ble notifies its observers when its state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erformed by objects that provide a Listener interface (aka callback, delega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DataBase Connectivity is a specification from Sun for accessing databases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ing example of generic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mplements a driver architecture exploiting the mechanisms of JV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al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ava.sq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ckage expos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ly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ly class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river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e class constructor a driver register itself with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river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grammer performs the following step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the database driver (a Java 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connection to a database (using DriverManag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tai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execute the qu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 the rows us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ult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.forName("…"); // Load the dr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ection c = DriverManager.getConnection("…"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ement s = c.createStatemen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Set r = s.executeQuery("select …"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r.hasNext()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column as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s = r.getString(2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is Class or Interfa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, Statement are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riverManag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program obtains an objec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which implement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applies to all the other interfaces: through the connection an object implemen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obtained, and so on and so for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ility of associate more than one meaning to a name in a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already seen two kinds of polymorphis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ype/inclusion (inherita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morphism is the fundamental mechanism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ic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other kinds of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16000" y="34290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76720" y="2349360"/>
            <a:ext cx="1726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03640" y="436572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3059280" y="2637000"/>
            <a:ext cx="43308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059280" y="3645000"/>
            <a:ext cx="43308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4786200" y="2060280"/>
            <a:ext cx="217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788000" y="2492280"/>
            <a:ext cx="217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V="1">
            <a:off x="4857840" y="4078080"/>
            <a:ext cx="217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4859280" y="4510080"/>
            <a:ext cx="217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327640" y="19162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327640" y="29242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329080" y="393372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329080" y="501336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er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al vs. ad hoc polymorph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overloading an implementation for each signature is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ad hoc solutions for different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instead allows defining algorithms that operate on all classes of objects that inherit from a given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case a single (universal) solution applies to different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Poly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method disp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adds a v-table to each object from a class having virtual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Java V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tor v = new Vecto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.addElement("Pippo"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.addElement(new Integer(2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tur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El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addElement(Object 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gument is of type Object because the container may contain any type of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with contai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ng an object in a vector we loose typ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ur example we implicitly upcast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.addElement("Pippo"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ting the second element with the wrong cast produces a runtime err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i = (Integer)v.elementAt(0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kest constraint progra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assume something about objects that we manipul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Vector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Object[]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iz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ector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 = new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Object[15]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ddElement(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ize == v.length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Object[]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 = new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Object[]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2 * siz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opy(v, 0, siz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 = w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[size++] = 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only assignment operations and arrays: operation available on all ob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2:26:28Z</dcterms:created>
  <dc:creator>Giuseppe Attardi</dc:creator>
  <dc:description/>
  <dc:language>en-US</dc:language>
  <cp:lastModifiedBy>Giuseppe Attardi</cp:lastModifiedBy>
  <dcterms:modified xsi:type="dcterms:W3CDTF">2010-12-14T14:25:58Z</dcterms:modified>
  <cp:revision>105</cp:revision>
  <dc:subject/>
  <dc:title>Polymorphism</dc:title>
</cp:coreProperties>
</file>